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4EDA-2167-4AA1-8FE5-AB8243DE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6172-824A-4B1B-9867-3F2DB144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06F-8467-4045-A377-FAB95FEB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385-F061-4C4A-B623-95FFDB7E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984-F635-43CD-A4FA-5D079BBA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99A-1CEA-4C8C-A6B2-CEEF402C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0F7-AA19-41B5-BEFE-BD79314D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CC6-92EA-494E-92AD-FBCE6B86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B42-8BE1-4CB4-8D38-B06E9209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ED9-58C6-41CC-A1C2-1C75BCC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DEC-00B6-4BC9-BE5A-7598F5DB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EDB-80E7-41D7-851D-885DF265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45E9-9D1B-4ACD-8CB6-2E586C474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ханические колеб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евращение энергии при гармонических колеб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258920" y="1855800"/>
                <a:ext cx="180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κ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357720"/>
                <a:ext cx="3672000" cy="92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κ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ν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116000" y="4797360"/>
                <a:ext cx="24480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κ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ν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5280" y="1724040"/>
            <a:ext cx="8208720" cy="1432080"/>
            <a:chOff x="395280" y="1724040"/>
            <a:chExt cx="8208720" cy="1432080"/>
          </a:xfrm>
        </p:grpSpPr>
        <p:cxnSp>
          <p:nvCxnSpPr>
            <p:cNvPr id="71" name="_s13324"/>
            <p:cNvCxnSpPr>
              <a:stCxn id="72" idx="0"/>
              <a:endCxn id="73" idx="2"/>
            </p:cNvCxnSpPr>
            <p:nvPr/>
          </p:nvCxnSpPr>
          <p:spPr>
            <a:xfrm flipV="1" rot="16200000">
              <a:off x="5435640" y="1431000"/>
              <a:ext cx="229320" cy="209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3323"/>
            <p:cNvCxnSpPr>
              <a:stCxn id="75" idx="0"/>
              <a:endCxn id="73" idx="2"/>
            </p:cNvCxnSpPr>
            <p:nvPr/>
          </p:nvCxnSpPr>
          <p:spPr>
            <a:xfrm flipH="1" flipV="1" rot="5400000">
              <a:off x="3336120" y="1430640"/>
              <a:ext cx="229320" cy="21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13319"/>
            <p:cNvSpPr/>
            <p:nvPr/>
          </p:nvSpPr>
          <p:spPr>
            <a:xfrm>
              <a:off x="3076560" y="1724040"/>
              <a:ext cx="2845800" cy="64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Виды маятников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3320"/>
            <p:cNvSpPr/>
            <p:nvPr/>
          </p:nvSpPr>
          <p:spPr>
            <a:xfrm>
              <a:off x="395280" y="2595600"/>
              <a:ext cx="4007880" cy="560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тематический (нитяной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3321"/>
            <p:cNvSpPr/>
            <p:nvPr/>
          </p:nvSpPr>
          <p:spPr>
            <a:xfrm>
              <a:off x="4596120" y="2595600"/>
              <a:ext cx="4007880" cy="560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ужин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9640" y="404640"/>
            <a:ext cx="784872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ужинн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армониче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ят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груз масс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рикрепленный к пружине жестк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торой конец которой закреплен неподви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уговая частота колеб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за равна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ериод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43923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0" y="0"/>
          <a:ext cx="998640" cy="747720"/>
        </p:xfrm>
        <a:graphic>
          <a:graphicData uri="http://schemas.openxmlformats.org/drawingml/2006/table">
            <a:tbl>
              <a:tblPr/>
              <a:tblGrid>
                <a:gridCol w="99864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1773360"/>
            <a:ext cx="1152720" cy="777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052880" y="2734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051440" y="3376440"/>
          <a:ext cx="1041120" cy="747720"/>
        </p:xfrm>
        <a:graphic>
          <a:graphicData uri="http://schemas.openxmlformats.org/drawingml/2006/table">
            <a:tbl>
              <a:tblPr/>
              <a:tblGrid>
                <a:gridCol w="104112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763640" y="3068640"/>
            <a:ext cx="1656000" cy="102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411280" y="4508640"/>
                <a:ext cx="1440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х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539640" y="4508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 движения те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13800" cy="54723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06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атематический маят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ело небольших размеров, подвешенное на тонкой нерастяжимой невесомой нити дл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Круговая частота математического маятника равна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608360" cy="460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094280" y="3056040"/>
          <a:ext cx="955440" cy="747720"/>
        </p:xfrm>
        <a:graphic>
          <a:graphicData uri="http://schemas.openxmlformats.org/drawingml/2006/table">
            <a:tbl>
              <a:tblPr/>
              <a:tblGrid>
                <a:gridCol w="95544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572000" y="1052640"/>
            <a:ext cx="1295280" cy="909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ериод колебаний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51440" y="3056040"/>
          <a:ext cx="1041120" cy="747720"/>
        </p:xfrm>
        <a:graphic>
          <a:graphicData uri="http://schemas.openxmlformats.org/drawingml/2006/table">
            <a:tbl>
              <a:tblPr/>
              <a:tblGrid>
                <a:gridCol w="104112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651640" y="2997360"/>
            <a:ext cx="2016000" cy="1293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19640" y="458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19640" y="4437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 движения т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084720" y="4869000"/>
                <a:ext cx="13669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129440" cy="5400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573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ятник Фу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9960" y="1197000"/>
            <a:ext cx="499428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астота колебаний 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исло полных колебаний в единицу времени. В системе СИ выражается в герцах (Г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=N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иклическая (или круговая) часто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ω = 2π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связана с периодом отношением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222800" y="3094200"/>
          <a:ext cx="698400" cy="671400"/>
        </p:xfrm>
        <a:graphic>
          <a:graphicData uri="http://schemas.openxmlformats.org/drawingml/2006/table">
            <a:tbl>
              <a:tblPr/>
              <a:tblGrid>
                <a:gridCol w="69840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4581360"/>
            <a:ext cx="1800360" cy="16178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9640" y="476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армонические колеб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колебания, при которых колеблющаяся величина изменяется по закону синуса или косинуса. Смещение определяется формуло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32360" y="1052640"/>
            <a:ext cx="2879640" cy="709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220500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амплитуда, ω – циклическая частота, φ0 – начальная фаза колебания. Дифференциальное уравнение свободных гармонических механических колебаний имеет один и тот же вид для любых колебаний: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559320" y="3154320"/>
          <a:ext cx="2027160" cy="549360"/>
        </p:xfrm>
        <a:graphic>
          <a:graphicData uri="http://schemas.openxmlformats.org/drawingml/2006/table">
            <a:tbl>
              <a:tblPr/>
              <a:tblGrid>
                <a:gridCol w="2027160"/>
              </a:tblGrid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693960" y="3200400"/>
            <a:ext cx="3830760" cy="61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076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                     – ускорение тела. Величина ω0 называется собственной частотой свободных колебаний. Ускорение при гармонических колебаниях всегда направлено в сторону, противоположную смещению; максимальное ускорение рав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187280" y="3933720"/>
            <a:ext cx="792360" cy="73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2880000" cy="976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371840" cy="5829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265640" cy="568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79280" y="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плитуда, частота и фаза колеб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5661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ещение, скорость и ускорение при гармонических колебан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ебание – периодически повторяющееся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олеб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движения или процессы, которые характеризуются определенной повторяемостью в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333360"/>
            <a:ext cx="86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нужденные колеб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 колебания, возникающие под действием внешней периодически изменяющейся силы. Частота вынужденных колебаний равна частоте изменения внешн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частота ν внешней силы совпадет с частотой                               свободных колебаний систе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амплитуда колебаний рез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явление н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зонанс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6320" y="2205000"/>
            <a:ext cx="5557680" cy="444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1152720" cy="113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4295880"/>
            <a:ext cx="3203640" cy="2562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40464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ие гармонические колебания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 свободных колебаний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ные колебания груза на пружине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лые колебания математического маятника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й маятник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тность колебательной системы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авнение вынужденных колебаний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108240" y="3094200"/>
          <a:ext cx="2927520" cy="671400"/>
        </p:xfrm>
        <a:graphic>
          <a:graphicData uri="http://schemas.openxmlformats.org/drawingml/2006/table">
            <a:tbl>
              <a:tblPr/>
              <a:tblGrid>
                <a:gridCol w="292752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3640" y="260280"/>
            <a:ext cx="374508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4073400" y="3154320"/>
          <a:ext cx="998640" cy="549360"/>
        </p:xfrm>
        <a:graphic>
          <a:graphicData uri="http://schemas.openxmlformats.org/drawingml/2006/table">
            <a:tbl>
              <a:tblPr/>
              <a:tblGrid>
                <a:gridCol w="998640"/>
              </a:tblGrid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151272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3216240" y="3056040"/>
          <a:ext cx="2712960" cy="747720"/>
        </p:xfrm>
        <a:graphic>
          <a:graphicData uri="http://schemas.openxmlformats.org/drawingml/2006/table">
            <a:tbl>
              <a:tblPr/>
              <a:tblGrid>
                <a:gridCol w="271296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003640" y="1268280"/>
            <a:ext cx="3889440" cy="7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3216240" y="3056040"/>
          <a:ext cx="2712960" cy="747720"/>
        </p:xfrm>
        <a:graphic>
          <a:graphicData uri="http://schemas.openxmlformats.org/drawingml/2006/table">
            <a:tbl>
              <a:tblPr/>
              <a:tblGrid>
                <a:gridCol w="271296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580000" y="2205000"/>
            <a:ext cx="33847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3859200" y="3009960"/>
          <a:ext cx="1427040" cy="838080"/>
        </p:xfrm>
        <a:graphic>
          <a:graphicData uri="http://schemas.openxmlformats.org/drawingml/2006/table">
            <a:tbl>
              <a:tblPr/>
              <a:tblGrid>
                <a:gridCol w="14270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87640" y="2924280"/>
            <a:ext cx="1871640" cy="798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032360" y="2772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30560" y="3414600"/>
          <a:ext cx="1084320" cy="671400"/>
        </p:xfrm>
        <a:graphic>
          <a:graphicData uri="http://schemas.openxmlformats.org/drawingml/2006/table">
            <a:tbl>
              <a:tblPr/>
              <a:tblGrid>
                <a:gridCol w="1084320"/>
              </a:tblGrid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932360" y="3860640"/>
            <a:ext cx="17287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3859200" y="3154320"/>
          <a:ext cx="1427040" cy="549360"/>
        </p:xfrm>
        <a:graphic>
          <a:graphicData uri="http://schemas.openxmlformats.org/drawingml/2006/table">
            <a:tbl>
              <a:tblPr/>
              <a:tblGrid>
                <a:gridCol w="1427040"/>
              </a:tblGrid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4643280" y="4724280"/>
            <a:ext cx="2305080" cy="5572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/з: глава 3, параграфы:18-26, примеры решения задач на стр.71-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2205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514520" y="1435320"/>
            <a:ext cx="6115320" cy="3664080"/>
            <a:chOff x="1514520" y="1435320"/>
            <a:chExt cx="6115320" cy="3664080"/>
          </a:xfrm>
        </p:grpSpPr>
        <p:cxnSp>
          <p:nvCxnSpPr>
            <p:cNvPr id="44" name="_s32786"/>
            <p:cNvCxnSpPr>
              <a:stCxn id="45" idx="0"/>
              <a:endCxn id="46" idx="2"/>
            </p:cNvCxnSpPr>
            <p:nvPr/>
          </p:nvCxnSpPr>
          <p:spPr>
            <a:xfrm flipV="1" rot="16200000">
              <a:off x="6044040" y="306252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2784"/>
            <p:cNvCxnSpPr>
              <a:stCxn id="48" idx="0"/>
              <a:endCxn id="49" idx="2"/>
            </p:cNvCxnSpPr>
            <p:nvPr/>
          </p:nvCxnSpPr>
          <p:spPr>
            <a:xfrm flipV="1" rot="16200000">
              <a:off x="2872080" y="3062520"/>
              <a:ext cx="22932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2781"/>
            <p:cNvCxnSpPr>
              <a:stCxn id="46" idx="0"/>
              <a:endCxn id="51" idx="2"/>
            </p:cNvCxnSpPr>
            <p:nvPr/>
          </p:nvCxnSpPr>
          <p:spPr>
            <a:xfrm flipV="1" rot="16200000">
              <a:off x="5250240" y="1398960"/>
              <a:ext cx="229320" cy="1586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2780"/>
            <p:cNvCxnSpPr>
              <a:stCxn id="49" idx="0"/>
              <a:endCxn id="51" idx="2"/>
            </p:cNvCxnSpPr>
            <p:nvPr/>
          </p:nvCxnSpPr>
          <p:spPr>
            <a:xfrm flipH="1" flipV="1" rot="5400000">
              <a:off x="3664800" y="1398960"/>
              <a:ext cx="229320" cy="1586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1" name="_s32776"/>
            <p:cNvSpPr/>
            <p:nvPr/>
          </p:nvSpPr>
          <p:spPr>
            <a:xfrm>
              <a:off x="3418200" y="1435320"/>
              <a:ext cx="2307960" cy="64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Колеб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2777"/>
            <p:cNvSpPr/>
            <p:nvPr/>
          </p:nvSpPr>
          <p:spPr>
            <a:xfrm>
              <a:off x="1514520" y="2306880"/>
              <a:ext cx="2943360" cy="64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Свобод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2778"/>
            <p:cNvSpPr/>
            <p:nvPr/>
          </p:nvSpPr>
          <p:spPr>
            <a:xfrm>
              <a:off x="4686480" y="2306880"/>
              <a:ext cx="2943360" cy="642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Вынужденны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2783"/>
            <p:cNvSpPr/>
            <p:nvPr/>
          </p:nvSpPr>
          <p:spPr>
            <a:xfrm>
              <a:off x="1536840" y="3178440"/>
              <a:ext cx="2900520" cy="1920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затухающ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леб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_s32785"/>
            <p:cNvSpPr/>
            <p:nvPr/>
          </p:nvSpPr>
          <p:spPr>
            <a:xfrm>
              <a:off x="4708800" y="3178440"/>
              <a:ext cx="2900160" cy="1920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незатухающ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колеб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словия возникновения свободных колеб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ичие в системе сила, направленной к положению равновесия и стремящейся возвратить тело в положение равновес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ое т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 затухающих колеб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620120" cy="43210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рафик незатухающих колеб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700280"/>
            <a:ext cx="7619760" cy="45864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ите амплитуду колеб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0600" y="1523880"/>
            <a:ext cx="4762800" cy="3810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ификация колеб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639720"/>
            <a:ext cx="6840720" cy="62946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ят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27640" cy="51847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07:19:36Z</dcterms:created>
  <dc:creator>SAdmin</dc:creator>
  <dc:description/>
  <dc:language>en-US</dc:language>
  <cp:lastModifiedBy>SAdmin</cp:lastModifiedBy>
  <dcterms:modified xsi:type="dcterms:W3CDTF">2008-01-28T09:07:02Z</dcterms:modified>
  <cp:revision>14</cp:revision>
  <dc:subject/>
  <dc:title>Механические колебания</dc:title>
</cp:coreProperties>
</file>